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47BAD-7B62-4858-A904-AE13E182AF8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3D675-E2FF-4BED-A69B-06B9A4B9DA3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5ECBA-63C9-4A41-8796-EBCBB5D237E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01666-DE8A-473D-BBA5-9653A10938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DFFFA-CB7C-4213-8D24-435B28D91B7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583DE-A838-4F33-8424-C3DC168AF19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B30FE-2FC7-4527-8472-E16869A0C32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9B8AB-4BA8-45DB-A7FB-33D1695305C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C5187-B4F6-4AB2-A4A2-8D01D53EF0B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D9802-9C95-4F5F-BC3F-B40D551DBD2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30E2C-0242-4555-9D9F-4A65D27B6A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446-5EB4-4D95-A0D2-599FF2F9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FB0-60FB-4453-B627-059F6C9A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008-4F15-40D5-A43A-7FCD4AA9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882-5231-419E-8A1D-0F072592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C01-3B56-4AAF-BACB-1F64F72C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0FC-41ED-4456-A355-B8CF1EE2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1E1-AE1E-4E8E-9C09-41F8A667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BD0-5E31-4D2B-920F-DB222AF4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786-5C7A-4317-A129-A479D45B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84C-7C71-4491-9AC5-8DC945A4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E17-D327-4221-8E3E-AC7A5AD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831-55FE-4C20-AACF-AF9F110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73C44-C74C-4EF1-A860-2D16E357D36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874800" y="2075040"/>
            <a:ext cx="735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4f6228"/>
                </a:solidFill>
                <a:latin typeface="Calibri"/>
              </a:rPr>
              <a:t>La PAC post 2013: aspetti redistributivi dei pagamenti diretti tra Stati memb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6"/>
          <p:cNvSpPr/>
          <p:nvPr/>
        </p:nvSpPr>
        <p:spPr>
          <a:xfrm>
            <a:off x="3218040" y="53769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Roma, 30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286000" y="391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f6228"/>
                </a:solidFill>
                <a:latin typeface="Arial"/>
              </a:rPr>
              <a:t>Roberto He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Istituto Nazionale di Economi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14320" y="18720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Alcuni confronti tra massimali con diversi parametri di calcolo per l’Ita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9320" y="17575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93560" y="289080"/>
            <a:ext cx="674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Alcuni punti di sinte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8"/>
          <p:cNvSpPr/>
          <p:nvPr/>
        </p:nvSpPr>
        <p:spPr>
          <a:xfrm>
            <a:off x="9360" y="1454040"/>
            <a:ext cx="855828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Quest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forma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non comporta modifiche radicali della PAC, ma può portare 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rofondi cambiamenti nella distribuzione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delle risorse tra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e implicazioni della scelta dei criteri distributivi per l’Italia sono notevoli.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Il nostro Paese contribuisce significativamente alla PLV europea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d anche alla produzione e valorizzazione dei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beni pubblic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uropei e dovrebbe vedersi riconosciuto (e remunerato) questo sfor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LV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è un criterio che “condensa” in sé altri parametri, di natura strutturale, occupazionale e sociale. Sarebbe bene tenere conto di più criteri contemporaneamente per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durre i dislivell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tra Paesi e raggiungere pagamenti medi più omogen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componente della “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arità di potere di acquisto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” è un importante fattore correttivo, che porta a rivedere i rapporti tra vecchi e nuov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9"/>
          <p:cNvSpPr/>
          <p:nvPr/>
        </p:nvSpPr>
        <p:spPr>
          <a:xfrm>
            <a:off x="291960" y="1389240"/>
            <a:ext cx="7599600" cy="48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 punti salienti della riforma si possono riassumere cos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Giustificazione dei pagamenti diretti com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emunerazione della produzione di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beni pubblic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Orientamento delle misure di mercato verso 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competitiv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imprese ed il rafforzamen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ella componente agricola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filiere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afforzamento della capacità di risposta del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PAC a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sfide ambiental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, compreso il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cambiamento climatic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ifesa e valorizzazione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divers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agricolture negli Stati memb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291960" y="1160640"/>
            <a:ext cx="75996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Punti rilevanti della negoziazio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edistribuzione aiuti diretti tra S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iavvicinamento aiuti diretti negli SM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Nuove politiche di mercat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Misure sviluppo rurale e cambiamento clima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Rispetto ai primi due punti, si pone il problema di una più equa distribuzione dell’ammontare di risorse tra Paesi, aree e singoli beneficia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dei criteri che si individueranno per riallocare le risorse dei pagamenti diretti si potranno verificare ampi scostamenti dalla situazione attua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379520" y="260280"/>
            <a:ext cx="54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per superficie agric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7760" y="1252440"/>
            <a:ext cx="8380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voro svolto da INEA in collaborazione con il Mipaaf: se si rapportano 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massimal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i pagamenti diretti per Paes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uperficie agricola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che ha generato i diritti all’aiuto, il valore medio comunitario sarebbe pari a poco men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300 euro/h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e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si collocherebbe al di sopra di tale valore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433,7 eur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0" y="3117960"/>
            <a:ext cx="8596440" cy="3740040"/>
          </a:xfrm>
          <a:prstGeom prst="rect">
            <a:avLst/>
          </a:prstGeom>
          <a:ln w="0">
            <a:noFill/>
          </a:ln>
        </p:spPr>
      </p:pic>
      <p:sp>
        <p:nvSpPr>
          <p:cNvPr id="70" name="Rettangolo 9"/>
          <p:cNvSpPr/>
          <p:nvPr/>
        </p:nvSpPr>
        <p:spPr>
          <a:xfrm>
            <a:off x="2554200" y="3446640"/>
            <a:ext cx="43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alibri"/>
              </a:rPr>
              <a:t>Scostamento dal “flat rate” (€/ha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77760" y="1252440"/>
            <a:ext cx="85820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Tuttavia, se si tiene cont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ltri criteri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distributivi delle risorse, la situazione si modifica, notevolmente 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vantaggi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l nostro Pa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è un parametro di grande interesse per la distribuzione dei pagamenti diretti, perché sintetizza molti criteri “oggettivi” (specializzazione, forza lavoro, strutture, ecc.).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contribuisce in modo rilevant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 europea (12,7%)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, ma l’importo medio degl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iut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per 1.000 euro di PLV vede il nostro Paese molto al di sotto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76,7%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 rispetto al dato medio europeo (123 eur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0"/>
          <p:cNvSpPr/>
          <p:nvPr/>
        </p:nvSpPr>
        <p:spPr>
          <a:xfrm>
            <a:off x="1106640" y="384120"/>
            <a:ext cx="58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rispetto alla PLV agricol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0" y="4095720"/>
            <a:ext cx="9004320" cy="2762280"/>
          </a:xfrm>
          <a:prstGeom prst="rect">
            <a:avLst/>
          </a:prstGeom>
          <a:ln w="0">
            <a:noFill/>
          </a:ln>
        </p:spPr>
      </p:pic>
      <p:sp>
        <p:nvSpPr>
          <p:cNvPr id="77" name="Rettangolo 12"/>
          <p:cNvSpPr/>
          <p:nvPr/>
        </p:nvSpPr>
        <p:spPr>
          <a:xfrm>
            <a:off x="3438360" y="4221000"/>
            <a:ext cx="54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costamento dal flat rate (€/1.000 € di PLV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9"/>
          <p:cNvSpPr/>
          <p:nvPr/>
        </p:nvSpPr>
        <p:spPr>
          <a:xfrm>
            <a:off x="984240" y="374760"/>
            <a:ext cx="589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l problema della parità di potere di acquis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13"/>
          <p:cNvSpPr/>
          <p:nvPr/>
        </p:nvSpPr>
        <p:spPr>
          <a:xfrm>
            <a:off x="393840" y="1427040"/>
            <a:ext cx="789120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E’ stata posta l’attenzione sul fatto che il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potere di acquist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i 27 Stati membri è molt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divers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Paese e Pae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n pratica,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100 euro medi di aiu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l settore agricol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corrispondono ad entità molto divers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se questi 100 euro vengono dati ad un agricoltore tedesco, ad uno italiano o ad uno slovacco, dati i diversi livelli di potere di acquisto tra i tre Paes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pplicando questo criterio della parità di potere di acquisto, otteniamo dei dati molto diversi da quelli da cui siamo partit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685800" y="284040"/>
            <a:ext cx="588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per superficie e per PLV corretti con la PP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"/>
          <p:cNvPicPr/>
          <p:nvPr/>
        </p:nvPicPr>
        <p:blipFill>
          <a:blip r:embed="rId2"/>
          <a:stretch/>
        </p:blipFill>
        <p:spPr>
          <a:xfrm>
            <a:off x="1335240" y="4429080"/>
            <a:ext cx="5497200" cy="2040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5"/>
          <p:cNvSpPr/>
          <p:nvPr/>
        </p:nvSpPr>
        <p:spPr>
          <a:xfrm>
            <a:off x="192240" y="1150920"/>
            <a:ext cx="81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“flat rate” medio europeo di 296,2 € per ettaro è pari a 320,9 € in Italia, a 379,9 nel Regno Unito, e solo a 121,7 euro in Bulgaria o a  142,8 euro in Rom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Quindi, per avere un “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flat rat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” per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ettaro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rispondente a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scendere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433,6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320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e non a 296,2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eguendo lo stesso ragionamento, con 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LV in 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portare l’aiuto medi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 94,8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er 1.000 € di PLV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133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(e non a 123,6 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ttore 2 11"/>
          <p:cNvCxnSpPr/>
          <p:nvPr/>
        </p:nvCxnSpPr>
        <p:spPr>
          <a:xfrm flipH="1">
            <a:off x="3341160" y="4809600"/>
            <a:ext cx="29520" cy="148212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0" name="Connettore 2 14"/>
          <p:cNvCxnSpPr/>
          <p:nvPr/>
        </p:nvCxnSpPr>
        <p:spPr>
          <a:xfrm flipH="1" flipV="1">
            <a:off x="3803040" y="4809240"/>
            <a:ext cx="1080" cy="154548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1" name="Connettore 1 19"/>
          <p:cNvSpPr/>
          <p:nvPr/>
        </p:nvSpPr>
        <p:spPr>
          <a:xfrm>
            <a:off x="3355920" y="6369120"/>
            <a:ext cx="4669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Connettore 2 23"/>
          <p:cNvCxnSpPr/>
          <p:nvPr/>
        </p:nvCxnSpPr>
        <p:spPr>
          <a:xfrm flipH="1">
            <a:off x="5560200" y="4807080"/>
            <a:ext cx="27720" cy="14817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3" name="Connettore 2 24"/>
          <p:cNvCxnSpPr/>
          <p:nvPr/>
        </p:nvCxnSpPr>
        <p:spPr>
          <a:xfrm flipH="1" flipV="1">
            <a:off x="6022080" y="4806720"/>
            <a:ext cx="1080" cy="154512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4" name="Connettore 1 25"/>
          <p:cNvSpPr/>
          <p:nvPr/>
        </p:nvSpPr>
        <p:spPr>
          <a:xfrm>
            <a:off x="5575320" y="6365880"/>
            <a:ext cx="4651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13"/>
          <p:cNvSpPr/>
          <p:nvPr/>
        </p:nvSpPr>
        <p:spPr>
          <a:xfrm>
            <a:off x="771840" y="37476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15"/>
          <p:cNvSpPr/>
          <p:nvPr/>
        </p:nvSpPr>
        <p:spPr>
          <a:xfrm>
            <a:off x="274680" y="1146240"/>
            <a:ext cx="8156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altro modo per agire su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istribuzion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delle risorse è rivedere i massimali individuand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“criteri oggettivi”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che tengano contro della potenzialità di produzione da parte dell’agricoltura di beni pubb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Come esempio, abbiamo utilizzato 4 criteri con pes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uperficie ammissi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L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opolazione ru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Aree Natura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In realtà,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il massimale italiano ricalcolato in questo modo risulta </a:t>
            </a:r>
            <a:r>
              <a:rPr b="1" lang="it-IT" sz="2400" spc="-1" strike="noStrike" u="sng">
                <a:solidFill>
                  <a:srgbClr val="4f6228"/>
                </a:solidFill>
                <a:uFillTx/>
                <a:latin typeface="Calibri"/>
              </a:rPr>
              <a:t>sempre in linea con quello attual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mentre altri Paesi (Francia, Regno Unito, Grecia …) vedono il proprio massimale modificarsi in modo più n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814320" y="23328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alcuni esemp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109440" y="1139760"/>
            <a:ext cx="8348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03:37Z</dcterms:created>
  <dc:creator>Sofia</dc:creator>
  <dc:description/>
  <dc:language>en-US</dc:language>
  <cp:lastModifiedBy>GIAMPAOLO</cp:lastModifiedBy>
  <dcterms:modified xsi:type="dcterms:W3CDTF">2011-04-08T20:30:43Z</dcterms:modified>
  <cp:revision>25</cp:revision>
  <dc:subject/>
  <dc:title>Diapositiva 1</dc:title>
</cp:coreProperties>
</file>