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60FF4-BB4B-4D0F-917A-CAD9F319A15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2F5BD-04B8-4D3B-840C-823B652DA2A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87EEF-68F2-46D9-B152-1D5746B7BB7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021FD-3AB2-417D-A34F-DDC938DC2E2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9DBE8-98DB-4C9F-AD04-37C504D4013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9F7EC-8A0E-46AA-AC5E-719AF263EFD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9E5BD-CD2F-47C8-91D7-FD974B5DF7B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F628C-97E2-464C-B3CB-7D66486A627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7E30D-7820-4CB6-9887-906F58639A3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46650-4B29-4507-8F15-35F31BF432E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CE653-BAA1-4F3F-BBBF-DD563C7C13F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C11-7926-4417-A62A-7FE04932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A8E-AB48-463F-9CCE-913E2CE6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482-617A-4AE5-B7CD-6BF8C6CD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AD2-703C-4DDD-9891-784BF121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6AB-EE1F-4257-B22E-3E5D9C41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852-4A5F-4039-B5AE-55D8C400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839-E5AB-41CD-97D1-E2B4B5A2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CBA-63A2-4639-93B6-33DD39F5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0A5-B50B-4498-B818-D984E9E9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5A4-AE5C-44B0-928D-5377CCF0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BF4-3304-42D4-B843-9491B4A2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412-94B1-41DC-93BA-A98ABCF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B68EF-94FA-4087-8FC9-F6C33715D37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5"/>
          <p:cNvSpPr/>
          <p:nvPr/>
        </p:nvSpPr>
        <p:spPr>
          <a:xfrm>
            <a:off x="874800" y="2075040"/>
            <a:ext cx="735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000" spc="-1" strike="noStrike">
                <a:solidFill>
                  <a:srgbClr val="4f6228"/>
                </a:solidFill>
                <a:latin typeface="Calibri"/>
              </a:rPr>
              <a:t>La PAC post 2013: aspetti redistributivi dei pagamenti diretti tra Stati memb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6"/>
          <p:cNvSpPr/>
          <p:nvPr/>
        </p:nvSpPr>
        <p:spPr>
          <a:xfrm>
            <a:off x="3218040" y="5376960"/>
            <a:ext cx="29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Roma, 30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8"/>
          <p:cNvSpPr/>
          <p:nvPr/>
        </p:nvSpPr>
        <p:spPr>
          <a:xfrm>
            <a:off x="2286000" y="391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4f6228"/>
                </a:solidFill>
                <a:latin typeface="Arial"/>
              </a:rPr>
              <a:t>Roberto He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1800" spc="-1" strike="noStrike">
                <a:solidFill>
                  <a:srgbClr val="4f6228"/>
                </a:solidFill>
                <a:latin typeface="Calibri"/>
              </a:rPr>
              <a:t>Istituto Nazionale di Economi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814320" y="18720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Alcuni confronti tra massimali con diversi parametri di calcolo per l’Ita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9320" y="1757520"/>
            <a:ext cx="8458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93560" y="289080"/>
            <a:ext cx="6748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Alcuni punti di sintes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8"/>
          <p:cNvSpPr/>
          <p:nvPr/>
        </p:nvSpPr>
        <p:spPr>
          <a:xfrm>
            <a:off x="9360" y="1454040"/>
            <a:ext cx="855828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Quest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forma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non comporta modifiche radicali della PAC, ma può portare 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rofondi cambiamenti nella distribuzione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delle risorse tra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e implicazioni della scelta dei criteri distributivi per l’Italia sono notevoli.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Il nostro Paese contribuisce significativamente alla PLV europea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d anche alla produzione e valorizzazione dei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beni pubblic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europei e dovrebbe vedersi riconosciuto (e remunerato) questo sfor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LV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 è un criterio che “condensa” in sé altri parametri, di natura strutturale, occupazionale e sociale. Sarebbe bene tenere conto di più criteri contemporaneamente per 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ridurre i dislivelli 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tra Paesi e raggiungere pagamenti medi più omogen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La componente della “</a:t>
            </a:r>
            <a:r>
              <a:rPr b="1" lang="it-IT" sz="2000" spc="-1" strike="noStrike">
                <a:solidFill>
                  <a:srgbClr val="4f6228"/>
                </a:solidFill>
                <a:latin typeface="Arial"/>
              </a:rPr>
              <a:t>parità di potere di acquisto</a:t>
            </a:r>
            <a:r>
              <a:rPr b="1" lang="it-IT" sz="2000" spc="-1" strike="noStrike">
                <a:solidFill>
                  <a:srgbClr val="c0504d"/>
                </a:solidFill>
                <a:latin typeface="Arial"/>
              </a:rPr>
              <a:t>” è un importante fattore correttivo, che porta a rivedere i rapporti tra vecchi e nuovi Stati memb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9"/>
          <p:cNvSpPr/>
          <p:nvPr/>
        </p:nvSpPr>
        <p:spPr>
          <a:xfrm>
            <a:off x="291960" y="1389240"/>
            <a:ext cx="7599600" cy="48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 punti salienti della riforma si possono riassumere così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Giustificazione dei pagamenti diretti com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emunerazione della produzione di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beni pubblic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Orientamento delle misure di mercato verso 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competitiv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imprese ed il rafforzamen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ella componente agricola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filiere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Rafforzamento della capacità di risposta della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PAC a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sfide ambientali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, compreso il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cambiamento climatic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089"/>
              </a:spcAft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 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Difesa e valorizzazione delle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  <a:ea typeface="Arial"/>
              </a:rPr>
              <a:t>diversità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 dell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agricolture negli Stati memb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7"/>
          <p:cNvSpPr/>
          <p:nvPr/>
        </p:nvSpPr>
        <p:spPr>
          <a:xfrm>
            <a:off x="2186640" y="3938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La PAC post 2013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9"/>
          <p:cNvSpPr/>
          <p:nvPr/>
        </p:nvSpPr>
        <p:spPr>
          <a:xfrm>
            <a:off x="291960" y="1160640"/>
            <a:ext cx="759960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Punti rilevanti della negoziazion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edistribuzione aiuti diretti tra S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008000"/>
                </a:solidFill>
                <a:latin typeface="Calibri"/>
                <a:ea typeface="Arial"/>
              </a:rPr>
              <a:t>Riavvicinamento aiuti diretti negli SM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Nuove politiche di mercat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089"/>
              </a:spcAft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  <a:ea typeface="Arial"/>
              </a:rPr>
              <a:t>Misure sviluppo rurale e cambiamento climat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Rispetto ai primi due punti, si pone il problema di una più equa distribuzione dell’ammontare di risorse tra Paesi, aree e singoli beneficiar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8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dei criteri che si individueranno per riallocare le risorse dei pagamenti diretti si potranno verificare ampi scostamenti dalla situazione attua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1379520" y="260280"/>
            <a:ext cx="547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per superficie agric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7760" y="1252440"/>
            <a:ext cx="838044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voro svolto da INEA in collaborazione con il Mipaaf: se si rapportano 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massimal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i pagamenti diretti per Paes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uperficie agricola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che ha generato i diritti all’aiuto, il valore medio comunitario sarebbe pari a poco men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300 euro/h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e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si collocherebbe al di sopra di tale valore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433,7 eur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0" y="3117960"/>
            <a:ext cx="8596440" cy="3740040"/>
          </a:xfrm>
          <a:prstGeom prst="rect">
            <a:avLst/>
          </a:prstGeom>
          <a:ln w="0">
            <a:noFill/>
          </a:ln>
        </p:spPr>
      </p:pic>
      <p:sp>
        <p:nvSpPr>
          <p:cNvPr id="70" name="Rettangolo 9"/>
          <p:cNvSpPr/>
          <p:nvPr/>
        </p:nvSpPr>
        <p:spPr>
          <a:xfrm>
            <a:off x="2554200" y="3446640"/>
            <a:ext cx="43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c0504d"/>
                </a:solidFill>
                <a:latin typeface="Calibri"/>
              </a:rPr>
              <a:t>Scostamento dal “flat rate” (€/ha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77760" y="1252440"/>
            <a:ext cx="8582040" cy="28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Tuttavia, se si tiene conto d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ltri criteri 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distributivi delle risorse, la situazione si modifica, notevolmente 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svantaggio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del nostro Pae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è un parametro di grande interesse per la distribuzione dei pagamenti diretti, perché sintetizza molti criteri “oggettivi” (specializzazione, forza lavoro, strutture, ecc.).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L’Italia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contribuisce in modo rilevante alla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PLV europea (12,7%)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, ma l’importo medio degli 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aiuti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 per 1.000 euro di PLV vede il nostro Paese molto al di sotto (</a:t>
            </a:r>
            <a:r>
              <a:rPr b="1" lang="it-IT" sz="2200" spc="-1" strike="noStrike">
                <a:solidFill>
                  <a:srgbClr val="4f6228"/>
                </a:solidFill>
                <a:latin typeface="Calibri"/>
              </a:rPr>
              <a:t>76,7%</a:t>
            </a:r>
            <a:r>
              <a:rPr b="1" lang="it-IT" sz="2200" spc="-1" strike="noStrike">
                <a:solidFill>
                  <a:srgbClr val="c0504d"/>
                </a:solidFill>
                <a:latin typeface="Calibri"/>
              </a:rPr>
              <a:t>) rispetto al dato medio europeo (123 eur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10"/>
          <p:cNvSpPr/>
          <p:nvPr/>
        </p:nvSpPr>
        <p:spPr>
          <a:xfrm>
            <a:off x="1106640" y="384120"/>
            <a:ext cx="58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diretti rispetto alla PLV agricol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0" y="4095720"/>
            <a:ext cx="9004320" cy="2762280"/>
          </a:xfrm>
          <a:prstGeom prst="rect">
            <a:avLst/>
          </a:prstGeom>
          <a:ln w="0">
            <a:noFill/>
          </a:ln>
        </p:spPr>
      </p:pic>
      <p:sp>
        <p:nvSpPr>
          <p:cNvPr id="77" name="Rettangolo 12"/>
          <p:cNvSpPr/>
          <p:nvPr/>
        </p:nvSpPr>
        <p:spPr>
          <a:xfrm>
            <a:off x="3438360" y="4221000"/>
            <a:ext cx="54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costamento dal flat rate (€/1.000 € di PLV, UE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9"/>
          <p:cNvSpPr/>
          <p:nvPr/>
        </p:nvSpPr>
        <p:spPr>
          <a:xfrm>
            <a:off x="984240" y="374760"/>
            <a:ext cx="589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l problema della parità di potere di acquis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13"/>
          <p:cNvSpPr/>
          <p:nvPr/>
        </p:nvSpPr>
        <p:spPr>
          <a:xfrm>
            <a:off x="393840" y="1427040"/>
            <a:ext cx="789120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E’ stata posta l’attenzione sul fatto che il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potere di acquist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i 27 Stati membri è molt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diverso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 tra Paese e Pae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In pratica,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100 euro medi di aiuto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l settore agricolo </a:t>
            </a:r>
            <a:r>
              <a:rPr b="1" lang="it-IT" sz="2500" spc="-1" strike="noStrike">
                <a:solidFill>
                  <a:srgbClr val="4f6228"/>
                </a:solidFill>
                <a:latin typeface="Calibri"/>
              </a:rPr>
              <a:t>corrispondono ad entità molto diverse </a:t>
            </a: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 seconda se questi 100 euro vengono dati ad un agricoltore tedesco, ad uno italiano o ad uno slovacco, dati i diversi livelli di potere di acquisto tra i tre Paes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938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c0504d"/>
                </a:solidFill>
                <a:latin typeface="Calibri"/>
              </a:rPr>
              <a:t>Applicando questo criterio della parità di potere di acquisto, otteniamo dei dati molto diversi da quelli da cui siamo partit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ttangolo 6"/>
          <p:cNvSpPr/>
          <p:nvPr/>
        </p:nvSpPr>
        <p:spPr>
          <a:xfrm>
            <a:off x="685800" y="284040"/>
            <a:ext cx="588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500" spc="-1" strike="noStrike">
                <a:solidFill>
                  <a:srgbClr val="ffffff"/>
                </a:solidFill>
                <a:latin typeface="Calibri"/>
              </a:rPr>
              <a:t>I pagamenti per superficie e per PLV corretti con la PP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"/>
          <p:cNvPicPr/>
          <p:nvPr/>
        </p:nvPicPr>
        <p:blipFill>
          <a:blip r:embed="rId2"/>
          <a:stretch/>
        </p:blipFill>
        <p:spPr>
          <a:xfrm>
            <a:off x="1335240" y="4429080"/>
            <a:ext cx="5497200" cy="2040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5"/>
          <p:cNvSpPr/>
          <p:nvPr/>
        </p:nvSpPr>
        <p:spPr>
          <a:xfrm>
            <a:off x="192240" y="1150920"/>
            <a:ext cx="81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“flat rate” medio europeo di 296,2 € per ettaro è pari a 320,9 € in Italia, a 379,9 nel Regno Unito, e solo a 121,7 euro in Bulgaria o a  142,8 euro in Rom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Quindi, per avere un “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flat rat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” per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ettaro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rispondente a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scendere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433,6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320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e non a 296,2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eguendo lo stesso ragionamento, con 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PLV in PPP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in Italia bisognerebbe portare l’aiuto medi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a 94,8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er 1.000 € di PLV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a 133,9 €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(e non a 123,6 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ttore 2 11"/>
          <p:cNvCxnSpPr/>
          <p:nvPr/>
        </p:nvCxnSpPr>
        <p:spPr>
          <a:xfrm flipH="1">
            <a:off x="3341160" y="4809600"/>
            <a:ext cx="29520" cy="148212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0" name="Connettore 2 14"/>
          <p:cNvCxnSpPr/>
          <p:nvPr/>
        </p:nvCxnSpPr>
        <p:spPr>
          <a:xfrm flipH="1" flipV="1">
            <a:off x="3803040" y="4809240"/>
            <a:ext cx="1080" cy="154548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1" name="Connettore 1 19"/>
          <p:cNvSpPr/>
          <p:nvPr/>
        </p:nvSpPr>
        <p:spPr>
          <a:xfrm>
            <a:off x="3355920" y="6369120"/>
            <a:ext cx="4669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Connettore 2 23"/>
          <p:cNvCxnSpPr/>
          <p:nvPr/>
        </p:nvCxnSpPr>
        <p:spPr>
          <a:xfrm flipH="1">
            <a:off x="5560200" y="4807080"/>
            <a:ext cx="27720" cy="14817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93" name="Connettore 2 24"/>
          <p:cNvCxnSpPr/>
          <p:nvPr/>
        </p:nvCxnSpPr>
        <p:spPr>
          <a:xfrm flipH="1" flipV="1">
            <a:off x="6022080" y="4806720"/>
            <a:ext cx="1080" cy="1545120"/>
          </a:xfrm>
          <a:prstGeom prst="straightConnector1">
            <a:avLst/>
          </a:prstGeom>
          <a:ln w="255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4" name="Connettore 1 25"/>
          <p:cNvSpPr/>
          <p:nvPr/>
        </p:nvSpPr>
        <p:spPr>
          <a:xfrm>
            <a:off x="5575320" y="6365880"/>
            <a:ext cx="465120" cy="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13"/>
          <p:cNvSpPr/>
          <p:nvPr/>
        </p:nvSpPr>
        <p:spPr>
          <a:xfrm>
            <a:off x="771840" y="37476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 (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15"/>
          <p:cNvSpPr/>
          <p:nvPr/>
        </p:nvSpPr>
        <p:spPr>
          <a:xfrm>
            <a:off x="274680" y="1146240"/>
            <a:ext cx="8156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Un altro modo per agire sulla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distribuzion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delle risorse è rivedere i massimali individuando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“criteri oggettivi”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che tengano contro della potenzialità di produzione da parte dell’agricoltura di beni pubb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Come esempio, abbiamo utilizzato 4 criteri con pes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Superficie ammissi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L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Popolazione ru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buClr>
                <a:srgbClr val="c0504d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Aree Natura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In realtà, </a:t>
            </a:r>
            <a:r>
              <a:rPr b="1" lang="it-IT" sz="2400" spc="-1" strike="noStrike">
                <a:solidFill>
                  <a:srgbClr val="4f6228"/>
                </a:solidFill>
                <a:latin typeface="Calibri"/>
              </a:rPr>
              <a:t>il massimale italiano ricalcolato in questo modo risulta </a:t>
            </a:r>
            <a:r>
              <a:rPr b="1" lang="it-IT" sz="2400" spc="-1" strike="noStrike" u="sng">
                <a:solidFill>
                  <a:srgbClr val="4f6228"/>
                </a:solidFill>
                <a:uFillTx/>
                <a:latin typeface="Calibri"/>
              </a:rPr>
              <a:t>sempre in linea con quello attuale</a:t>
            </a:r>
            <a:r>
              <a:rPr b="1" lang="it-IT" sz="2400" spc="-1" strike="noStrike">
                <a:solidFill>
                  <a:srgbClr val="c0504d"/>
                </a:solidFill>
                <a:latin typeface="Calibri"/>
              </a:rPr>
              <a:t>, mentre altri Paesi (Francia, Regno Unito, Grecia …) vedono il proprio massimale modificarsi in modo più n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Immagine 3" descr="Base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814320" y="233280"/>
            <a:ext cx="674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massimali secondo “criteri oggettivi”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alcuni esemp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109440" y="1139760"/>
            <a:ext cx="83487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03:37Z</dcterms:created>
  <dc:creator>Sofia</dc:creator>
  <dc:description/>
  <dc:language>en-US</dc:language>
  <cp:lastModifiedBy>GIAMPAOLO</cp:lastModifiedBy>
  <dcterms:modified xsi:type="dcterms:W3CDTF">2011-04-08T20:30:43Z</dcterms:modified>
  <cp:revision>25</cp:revision>
  <dc:subject/>
  <dc:title>Diapositiva 1</dc:title>
</cp:coreProperties>
</file>