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439DA-3F45-4A75-A2D6-639E9F27221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2661E-198E-42F5-895E-2259CBFB1DA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6B660-3EA8-4E4D-9D35-49BD892F74B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C6E4C-37AA-4A45-8B55-29F1440B641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CE1EC-2184-46A8-BC2F-CE33B614948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46D39-9269-4737-BB3E-F7334C6E830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D5EF6-1D14-4D6E-9635-E83F9088006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E0670-597F-4235-BB3C-C72749401C9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13700-4C02-4027-AD64-DDAFCE7F1EA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A4D09-59D5-4339-9AA6-60F7172BCF3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3FF7F-1DEE-4477-8D35-E09DB3FD385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174-5FD6-4FB8-B6D2-E11770ED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DA7-E6A2-4078-AE70-BACE28BB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9B7-E912-4732-AB88-5B63F817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543-7CEE-4403-B5C4-8E5A0D25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B55-58DB-4CED-BE0B-953623BC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4CB-893A-4238-AFB6-83A46881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809-3525-4CAF-88CE-84A310E6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1A4-7427-4DCC-B5AA-43F310FD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466-1936-4AA3-8907-CF5D4F0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049-B42F-4C01-A41F-C6A9EE9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0F4-EBA6-4035-AB1C-C8060753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BD4-4750-45B4-B767-4C92D2D4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3B1BD-4036-4C8B-927D-C00011888B4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874800" y="2075040"/>
            <a:ext cx="735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4f6228"/>
                </a:solidFill>
                <a:latin typeface="Calibri"/>
              </a:rPr>
              <a:t>La PAC post 2013: aspetti redistributivi dei pagamenti diretti tra Stati memb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6"/>
          <p:cNvSpPr/>
          <p:nvPr/>
        </p:nvSpPr>
        <p:spPr>
          <a:xfrm>
            <a:off x="3218040" y="53769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Roma, 30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8"/>
          <p:cNvSpPr/>
          <p:nvPr/>
        </p:nvSpPr>
        <p:spPr>
          <a:xfrm>
            <a:off x="2286000" y="391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f6228"/>
                </a:solidFill>
                <a:latin typeface="Arial"/>
              </a:rPr>
              <a:t>Roberto He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Istituto Nazionale di Economia Ag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814320" y="18720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Alcuni confronti tra massimali con diversi parametri di calcolo per l’Ital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9320" y="17575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93560" y="289080"/>
            <a:ext cx="6748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Alcuni punti di sintes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8"/>
          <p:cNvSpPr/>
          <p:nvPr/>
        </p:nvSpPr>
        <p:spPr>
          <a:xfrm>
            <a:off x="9360" y="1454040"/>
            <a:ext cx="855828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Quest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forma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non comporta modifiche radicali della PAC, ma può portare 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rofondi cambiamenti nella distribuzione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delle risorse tra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e implicazioni della scelta dei criteri distributivi per l’Italia sono notevoli.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Il nostro Paese contribuisce significativamente alla PLV europea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d anche alla produzione e valorizzazione dei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beni pubblic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uropei e dovrebbe vedersi riconosciuto (e remunerato) questo sfor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LV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è un criterio che “condensa” in sé altri parametri, di natura strutturale, occupazionale e sociale. Sarebbe bene tenere conto di più criteri contemporaneamente per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durre i dislivell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tra Paesi e raggiungere pagamenti medi più omogen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componente della “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arità di potere di acquisto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” è un importante fattore correttivo, che porta a rivedere i rapporti tra vecchi e nuovi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9"/>
          <p:cNvSpPr/>
          <p:nvPr/>
        </p:nvSpPr>
        <p:spPr>
          <a:xfrm>
            <a:off x="291960" y="1389240"/>
            <a:ext cx="7599600" cy="48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 punti salienti della riforma si possono riassumere cos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Giustificazione dei pagamenti diretti com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emunerazione della produzione di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beni pubblic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Orientamento delle misure di mercato verso 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competitiv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imprese ed il rafforzamen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ella componente agricola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filiere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afforzamento della capacità di risposta del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PAC a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sfide ambiental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, compreso il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cambiamento climatic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ifesa e valorizzazione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divers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agricolture negli Stati memb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9"/>
          <p:cNvSpPr/>
          <p:nvPr/>
        </p:nvSpPr>
        <p:spPr>
          <a:xfrm>
            <a:off x="291960" y="1160640"/>
            <a:ext cx="75996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Punti rilevanti della negoziazio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edistribuzione aiuti diretti tra S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iavvicinamento aiuti diretti negli SM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Nuove politiche di mercat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Misure sviluppo rurale e cambiamento clima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Rispetto ai primi due punti, si pone il problema di una più equa distribuzione dell’ammontare di risorse tra Paesi, aree e singoli beneficia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dei criteri che si individueranno per riallocare le risorse dei pagamenti diretti si potranno verificare ampi scostamenti dalla situazione attua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379520" y="260280"/>
            <a:ext cx="54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per superficie agric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7760" y="1252440"/>
            <a:ext cx="838044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voro svolto da INEA in collaborazione con il Mipaaf: se si rapportano 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massimal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i pagamenti diretti per Paes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uperficie agricola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che ha generato i diritti all’aiuto, il valore medio comunitario sarebbe pari a poco men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300 euro/h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e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si collocherebbe al di sopra di tale valore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433,7 eur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0" y="3117960"/>
            <a:ext cx="8596440" cy="3740040"/>
          </a:xfrm>
          <a:prstGeom prst="rect">
            <a:avLst/>
          </a:prstGeom>
          <a:ln w="0">
            <a:noFill/>
          </a:ln>
        </p:spPr>
      </p:pic>
      <p:sp>
        <p:nvSpPr>
          <p:cNvPr id="70" name="Rettangolo 9"/>
          <p:cNvSpPr/>
          <p:nvPr/>
        </p:nvSpPr>
        <p:spPr>
          <a:xfrm>
            <a:off x="2554200" y="3446640"/>
            <a:ext cx="43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alibri"/>
              </a:rPr>
              <a:t>Scostamento dal “flat rate” (€/ha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77760" y="1252440"/>
            <a:ext cx="85820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Tuttavia, se si tiene cont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ltri criteri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distributivi delle risorse, la situazione si modifica, notevolmente 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vantaggi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l nostro Pae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è un parametro di grande interesse per la distribuzione dei pagamenti diretti, perché sintetizza molti criteri “oggettivi” (specializzazione, forza lavoro, strutture, ecc.).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contribuisce in modo rilevant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 europea (12,7%)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, ma l’importo medio degl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iut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per 1.000 euro di PLV vede il nostro Paese molto al di sotto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76,7%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 rispetto al dato medio europeo (123 eur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10"/>
          <p:cNvSpPr/>
          <p:nvPr/>
        </p:nvSpPr>
        <p:spPr>
          <a:xfrm>
            <a:off x="1106640" y="384120"/>
            <a:ext cx="585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rispetto alla PLV agricol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0" y="4095720"/>
            <a:ext cx="9004320" cy="2762280"/>
          </a:xfrm>
          <a:prstGeom prst="rect">
            <a:avLst/>
          </a:prstGeom>
          <a:ln w="0">
            <a:noFill/>
          </a:ln>
        </p:spPr>
      </p:pic>
      <p:sp>
        <p:nvSpPr>
          <p:cNvPr id="77" name="Rettangolo 12"/>
          <p:cNvSpPr/>
          <p:nvPr/>
        </p:nvSpPr>
        <p:spPr>
          <a:xfrm>
            <a:off x="3438360" y="4221000"/>
            <a:ext cx="54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costamento dal flat rate (€/1.000 € di PLV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ttangolo 9"/>
          <p:cNvSpPr/>
          <p:nvPr/>
        </p:nvSpPr>
        <p:spPr>
          <a:xfrm>
            <a:off x="984240" y="374760"/>
            <a:ext cx="589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l problema della parità di potere di acquis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13"/>
          <p:cNvSpPr/>
          <p:nvPr/>
        </p:nvSpPr>
        <p:spPr>
          <a:xfrm>
            <a:off x="393840" y="1427040"/>
            <a:ext cx="789120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E’ stata posta l’attenzione sul fatto che il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potere di acquist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i 27 Stati membri è molt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divers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Paese e Pae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n pratica,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100 euro medi di aiu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l settore agricol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corrispondono ad entità molto divers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se questi 100 euro vengono dati ad un agricoltore tedesco, ad uno italiano o ad uno slovacco, dati i diversi livelli di potere di acquisto tra i tre Paes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pplicando questo criterio della parità di potere di acquisto, otteniamo dei dati molto diversi da quelli da cui siamo partit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ttangolo 6"/>
          <p:cNvSpPr/>
          <p:nvPr/>
        </p:nvSpPr>
        <p:spPr>
          <a:xfrm>
            <a:off x="685800" y="284040"/>
            <a:ext cx="588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per superficie e per PLV corretti con la PP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"/>
          <p:cNvPicPr/>
          <p:nvPr/>
        </p:nvPicPr>
        <p:blipFill>
          <a:blip r:embed="rId2"/>
          <a:stretch/>
        </p:blipFill>
        <p:spPr>
          <a:xfrm>
            <a:off x="1335240" y="4429080"/>
            <a:ext cx="5497200" cy="2040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5"/>
          <p:cNvSpPr/>
          <p:nvPr/>
        </p:nvSpPr>
        <p:spPr>
          <a:xfrm>
            <a:off x="192240" y="1150920"/>
            <a:ext cx="81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“flat rate” medio europeo di 296,2 € per ettaro è pari a 320,9 € in Italia, a 379,9 nel Regno Unito, e solo a 121,7 euro in Bulgaria o a  142,8 euro in Rom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Quindi, per avere un “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flat rat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” per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ettaro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rispondente a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scendere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433,6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320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e non a 296,2 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eguendo lo stesso ragionamento, con 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LV in 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portare l’aiuto medi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 94,8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er 1.000 € di PLV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133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(e non a 123,6 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onnettore 2 11"/>
          <p:cNvCxnSpPr/>
          <p:nvPr/>
        </p:nvCxnSpPr>
        <p:spPr>
          <a:xfrm flipH="1">
            <a:off x="3341160" y="4809600"/>
            <a:ext cx="29520" cy="148212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0" name="Connettore 2 14"/>
          <p:cNvCxnSpPr/>
          <p:nvPr/>
        </p:nvCxnSpPr>
        <p:spPr>
          <a:xfrm flipH="1" flipV="1">
            <a:off x="3803040" y="4809240"/>
            <a:ext cx="1080" cy="154548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1" name="Connettore 1 19"/>
          <p:cNvSpPr/>
          <p:nvPr/>
        </p:nvSpPr>
        <p:spPr>
          <a:xfrm>
            <a:off x="3355920" y="6369120"/>
            <a:ext cx="4669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Connettore 2 23"/>
          <p:cNvCxnSpPr/>
          <p:nvPr/>
        </p:nvCxnSpPr>
        <p:spPr>
          <a:xfrm flipH="1">
            <a:off x="5560200" y="4807080"/>
            <a:ext cx="27720" cy="14817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3" name="Connettore 2 24"/>
          <p:cNvCxnSpPr/>
          <p:nvPr/>
        </p:nvCxnSpPr>
        <p:spPr>
          <a:xfrm flipH="1" flipV="1">
            <a:off x="6022080" y="4806720"/>
            <a:ext cx="1080" cy="154512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4" name="Connettore 1 25"/>
          <p:cNvSpPr/>
          <p:nvPr/>
        </p:nvSpPr>
        <p:spPr>
          <a:xfrm>
            <a:off x="5575320" y="6365880"/>
            <a:ext cx="4651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ttangolo 13"/>
          <p:cNvSpPr/>
          <p:nvPr/>
        </p:nvSpPr>
        <p:spPr>
          <a:xfrm>
            <a:off x="771840" y="37476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tangolo 15"/>
          <p:cNvSpPr/>
          <p:nvPr/>
        </p:nvSpPr>
        <p:spPr>
          <a:xfrm>
            <a:off x="274680" y="1146240"/>
            <a:ext cx="81565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altro modo per agire su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istribuzion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delle risorse è rivedere i massimali individuand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“criteri oggettivi”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che tengano contro della potenzialità di produzione da parte dell’agricoltura di beni pubbl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Come esempio, abbiamo utilizzato 4 criteri con pesi diver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uperficie ammissi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L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opolazione ru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Aree Natura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In realtà,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il massimale italiano ricalcolato in questo modo risulta </a:t>
            </a:r>
            <a:r>
              <a:rPr b="1" lang="it-IT" sz="2400" spc="-1" strike="noStrike" u="sng">
                <a:solidFill>
                  <a:srgbClr val="4f6228"/>
                </a:solidFill>
                <a:uFillTx/>
                <a:latin typeface="Calibri"/>
              </a:rPr>
              <a:t>sempre in linea con quello attual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mentre altri Paesi (Francia, Regno Unito, Grecia …) vedono il proprio massimale modificarsi in modo più n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814320" y="23328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alcuni esemp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109440" y="1139760"/>
            <a:ext cx="8348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03:37Z</dcterms:created>
  <dc:creator>Sofia</dc:creator>
  <dc:description/>
  <dc:language>en-US</dc:language>
  <cp:lastModifiedBy>GIAMPAOLO</cp:lastModifiedBy>
  <dcterms:modified xsi:type="dcterms:W3CDTF">2011-04-08T20:30:43Z</dcterms:modified>
  <cp:revision>25</cp:revision>
  <dc:subject/>
  <dc:title>Diapositiva 1</dc:title>
</cp:coreProperties>
</file>