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3AA78-0012-4100-9EF8-978F8A93BD0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84FC7-FC8D-4CE5-BDE9-D529DD56774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8D250-87FA-4ABF-AB15-584DE8E62BF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87F78-665A-41FF-9D35-4A3A577F35B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1C02D-D4E6-4CFD-B7DB-BA84089DC5F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24634-C8D6-41CA-B9ED-4C2FCCDBBA0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E6743-63D8-4178-8091-F99DCC51FC8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95CCA-AA22-46FF-B75A-829A8246062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7CF16-B0AB-4B33-A2F3-CD662A7F6D1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3FDD4-3732-4558-B36A-7A8E4CCDD00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53174-855F-440B-8760-242DE771308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AA4-5A47-447F-940E-A2480009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35D-333F-4C69-941C-E9A59994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16C-8C36-48A5-BD45-7E864A7D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889-3AFC-416C-A773-18F80E65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59C-B1B1-425D-93DE-74D3717F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19E-2D83-4ABD-850A-59F16692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62F-3DCF-40DA-AC42-2F69EF0D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839-8BE7-4352-8EC3-5490D8DF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649-C21F-4449-A827-4EA6224D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969-AE41-4D35-97FC-F4B9BBAD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61F-FEA1-4C4E-B38C-ACDDF881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27D-DCB7-4173-A5E3-A1E99EBF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EDB57-6D8C-47D2-B2CF-05B07DCB0A1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874800" y="2075040"/>
            <a:ext cx="735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4f6228"/>
                </a:solidFill>
                <a:latin typeface="Calibri"/>
              </a:rPr>
              <a:t>La PAC post 2013: aspetti redistributivi dei pagamenti diretti tra Stati memb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6"/>
          <p:cNvSpPr/>
          <p:nvPr/>
        </p:nvSpPr>
        <p:spPr>
          <a:xfrm>
            <a:off x="3218040" y="53769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Roma, 30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286000" y="391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f6228"/>
                </a:solidFill>
                <a:latin typeface="Arial"/>
              </a:rPr>
              <a:t>Roberto He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Istituto Nazionale di Economi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14320" y="18720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Alcuni confronti tra massimali con diversi parametri di calcolo per l’Ita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9320" y="17575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93560" y="289080"/>
            <a:ext cx="674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Alcuni punti di sinte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8"/>
          <p:cNvSpPr/>
          <p:nvPr/>
        </p:nvSpPr>
        <p:spPr>
          <a:xfrm>
            <a:off x="9360" y="1454040"/>
            <a:ext cx="855828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Quest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forma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non comporta modifiche radicali della PAC, ma può portare 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rofondi cambiamenti nella distribuzione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delle risorse tra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e implicazioni della scelta dei criteri distributivi per l’Italia sono notevoli.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Il nostro Paese contribuisce significativamente alla PLV europea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d anche alla produzione e valorizzazione dei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beni pubblic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uropei e dovrebbe vedersi riconosciuto (e remunerato) questo sfor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LV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è un criterio che “condensa” in sé altri parametri, di natura strutturale, occupazionale e sociale. Sarebbe bene tenere conto di più criteri contemporaneamente per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durre i dislivell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tra Paesi e raggiungere pagamenti medi più omogen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componente della “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arità di potere di acquisto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” è un importante fattore correttivo, che porta a rivedere i rapporti tra vecchi e nuov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9"/>
          <p:cNvSpPr/>
          <p:nvPr/>
        </p:nvSpPr>
        <p:spPr>
          <a:xfrm>
            <a:off x="291960" y="1389240"/>
            <a:ext cx="7599600" cy="48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 punti salienti della riforma si possono riassumere cos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Giustificazione dei pagamenti diretti com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emunerazione della produzione di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beni pubblic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Orientamento delle misure di mercato verso 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competitiv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imprese ed il rafforzamen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ella componente agricola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filiere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afforzamento della capacità di risposta del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PAC a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sfide ambiental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, compreso il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cambiamento climatic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ifesa e valorizzazione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divers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agricolture negli Stati memb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291960" y="1160640"/>
            <a:ext cx="75996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Punti rilevanti della negoziazio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edistribuzione aiuti diretti tra S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iavvicinamento aiuti diretti negli SM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Nuove politiche di mercat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Misure sviluppo rurale e cambiamento clima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Rispetto ai primi due punti, si pone il problema di una più equa distribuzione dell’ammontare di risorse tra Paesi, aree e singoli beneficia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dei criteri che si individueranno per riallocare le risorse dei pagamenti diretti si potranno verificare ampi scostamenti dalla situazione attua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379520" y="260280"/>
            <a:ext cx="54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per superficie agric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7760" y="1252440"/>
            <a:ext cx="8380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voro svolto da INEA in collaborazione con il Mipaaf: se si rapportano 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massimal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i pagamenti diretti per Paes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uperficie agricola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che ha generato i diritti all’aiuto, il valore medio comunitario sarebbe pari a poco men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300 euro/h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e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si collocherebbe al di sopra di tale valore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433,7 eur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0" y="3117960"/>
            <a:ext cx="8596440" cy="3740040"/>
          </a:xfrm>
          <a:prstGeom prst="rect">
            <a:avLst/>
          </a:prstGeom>
          <a:ln w="0">
            <a:noFill/>
          </a:ln>
        </p:spPr>
      </p:pic>
      <p:sp>
        <p:nvSpPr>
          <p:cNvPr id="70" name="Rettangolo 9"/>
          <p:cNvSpPr/>
          <p:nvPr/>
        </p:nvSpPr>
        <p:spPr>
          <a:xfrm>
            <a:off x="2554200" y="3446640"/>
            <a:ext cx="43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alibri"/>
              </a:rPr>
              <a:t>Scostamento dal “flat rate” (€/ha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77760" y="1252440"/>
            <a:ext cx="85820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Tuttavia, se si tiene cont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ltri criteri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distributivi delle risorse, la situazione si modifica, notevolmente 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vantaggi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l nostro Pa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è un parametro di grande interesse per la distribuzione dei pagamenti diretti, perché sintetizza molti criteri “oggettivi” (specializzazione, forza lavoro, strutture, ecc.).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contribuisce in modo rilevant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 europea (12,7%)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, ma l’importo medio degl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iut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per 1.000 euro di PLV vede il nostro Paese molto al di sotto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76,7%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 rispetto al dato medio europeo (123 eur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0"/>
          <p:cNvSpPr/>
          <p:nvPr/>
        </p:nvSpPr>
        <p:spPr>
          <a:xfrm>
            <a:off x="1106640" y="384120"/>
            <a:ext cx="58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rispetto alla PLV agricol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0" y="4095720"/>
            <a:ext cx="9004320" cy="2762280"/>
          </a:xfrm>
          <a:prstGeom prst="rect">
            <a:avLst/>
          </a:prstGeom>
          <a:ln w="0">
            <a:noFill/>
          </a:ln>
        </p:spPr>
      </p:pic>
      <p:sp>
        <p:nvSpPr>
          <p:cNvPr id="77" name="Rettangolo 12"/>
          <p:cNvSpPr/>
          <p:nvPr/>
        </p:nvSpPr>
        <p:spPr>
          <a:xfrm>
            <a:off x="3438360" y="4221000"/>
            <a:ext cx="54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costamento dal flat rate (€/1.000 € di PLV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9"/>
          <p:cNvSpPr/>
          <p:nvPr/>
        </p:nvSpPr>
        <p:spPr>
          <a:xfrm>
            <a:off x="984240" y="374760"/>
            <a:ext cx="589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l problema della parità di potere di acquis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13"/>
          <p:cNvSpPr/>
          <p:nvPr/>
        </p:nvSpPr>
        <p:spPr>
          <a:xfrm>
            <a:off x="393840" y="1427040"/>
            <a:ext cx="789120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E’ stata posta l’attenzione sul fatto che il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potere di acquist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i 27 Stati membri è molt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divers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Paese e Pae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n pratica,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100 euro medi di aiu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l settore agricol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corrispondono ad entità molto divers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se questi 100 euro vengono dati ad un agricoltore tedesco, ad uno italiano o ad uno slovacco, dati i diversi livelli di potere di acquisto tra i tre Paes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pplicando questo criterio della parità di potere di acquisto, otteniamo dei dati molto diversi da quelli da cui siamo partit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685800" y="284040"/>
            <a:ext cx="588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per superficie e per PLV corretti con la PP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"/>
          <p:cNvPicPr/>
          <p:nvPr/>
        </p:nvPicPr>
        <p:blipFill>
          <a:blip r:embed="rId2"/>
          <a:stretch/>
        </p:blipFill>
        <p:spPr>
          <a:xfrm>
            <a:off x="1335240" y="4429080"/>
            <a:ext cx="5497200" cy="2040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5"/>
          <p:cNvSpPr/>
          <p:nvPr/>
        </p:nvSpPr>
        <p:spPr>
          <a:xfrm>
            <a:off x="192240" y="1150920"/>
            <a:ext cx="81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“flat rate” medio europeo di 296,2 € per ettaro è pari a 320,9 € in Italia, a 379,9 nel Regno Unito, e solo a 121,7 euro in Bulgaria o a  142,8 euro in Rom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Quindi, per avere un “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flat rat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” per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ettaro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rispondente a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scendere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433,6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320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e non a 296,2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eguendo lo stesso ragionamento, con 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LV in 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portare l’aiuto medi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 94,8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er 1.000 € di PLV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133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(e non a 123,6 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ttore 2 11"/>
          <p:cNvCxnSpPr/>
          <p:nvPr/>
        </p:nvCxnSpPr>
        <p:spPr>
          <a:xfrm flipH="1">
            <a:off x="3341160" y="4809600"/>
            <a:ext cx="29520" cy="148212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0" name="Connettore 2 14"/>
          <p:cNvCxnSpPr/>
          <p:nvPr/>
        </p:nvCxnSpPr>
        <p:spPr>
          <a:xfrm flipH="1" flipV="1">
            <a:off x="3803040" y="4809240"/>
            <a:ext cx="1080" cy="154548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1" name="Connettore 1 19"/>
          <p:cNvSpPr/>
          <p:nvPr/>
        </p:nvSpPr>
        <p:spPr>
          <a:xfrm>
            <a:off x="3355920" y="6369120"/>
            <a:ext cx="4669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Connettore 2 23"/>
          <p:cNvCxnSpPr/>
          <p:nvPr/>
        </p:nvCxnSpPr>
        <p:spPr>
          <a:xfrm flipH="1">
            <a:off x="5560200" y="4807080"/>
            <a:ext cx="27720" cy="14817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3" name="Connettore 2 24"/>
          <p:cNvCxnSpPr/>
          <p:nvPr/>
        </p:nvCxnSpPr>
        <p:spPr>
          <a:xfrm flipH="1" flipV="1">
            <a:off x="6022080" y="4806720"/>
            <a:ext cx="1080" cy="154512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4" name="Connettore 1 25"/>
          <p:cNvSpPr/>
          <p:nvPr/>
        </p:nvSpPr>
        <p:spPr>
          <a:xfrm>
            <a:off x="5575320" y="6365880"/>
            <a:ext cx="4651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13"/>
          <p:cNvSpPr/>
          <p:nvPr/>
        </p:nvSpPr>
        <p:spPr>
          <a:xfrm>
            <a:off x="771840" y="37476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15"/>
          <p:cNvSpPr/>
          <p:nvPr/>
        </p:nvSpPr>
        <p:spPr>
          <a:xfrm>
            <a:off x="274680" y="1146240"/>
            <a:ext cx="8156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altro modo per agire su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istribuzion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delle risorse è rivedere i massimali individuand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“criteri oggettivi”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che tengano contro della potenzialità di produzione da parte dell’agricoltura di beni pubb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Come esempio, abbiamo utilizzato 4 criteri con pes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uperficie ammissi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L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opolazione ru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Aree Natura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In realtà,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il massimale italiano ricalcolato in questo modo risulta </a:t>
            </a:r>
            <a:r>
              <a:rPr b="1" lang="it-IT" sz="2400" spc="-1" strike="noStrike" u="sng">
                <a:solidFill>
                  <a:srgbClr val="4f6228"/>
                </a:solidFill>
                <a:uFillTx/>
                <a:latin typeface="Calibri"/>
              </a:rPr>
              <a:t>sempre in linea con quello attual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mentre altri Paesi (Francia, Regno Unito, Grecia …) vedono il proprio massimale modificarsi in modo più n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814320" y="23328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alcuni esemp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109440" y="1139760"/>
            <a:ext cx="8348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03:37Z</dcterms:created>
  <dc:creator>Sofia</dc:creator>
  <dc:description/>
  <dc:language>en-US</dc:language>
  <cp:lastModifiedBy>GIAMPAOLO</cp:lastModifiedBy>
  <dcterms:modified xsi:type="dcterms:W3CDTF">2011-04-08T20:30:43Z</dcterms:modified>
  <cp:revision>25</cp:revision>
  <dc:subject/>
  <dc:title>Diapositiva 1</dc:title>
</cp:coreProperties>
</file>